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7DC-2590-4F6C-805A-17424099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8C3-064B-4510-A13D-F73D7B6A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0A4-9980-4C6E-ADD4-9D65EE64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5DB-85D5-42BC-82A0-E496DD0A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07D0-36F1-4D69-9A0A-5E26A01C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A5B5-5F42-48AE-A061-CDAD751E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C1E3-06F4-40D7-947A-0CFC53AA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0457-B927-4F30-AE5A-82DBC245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AFC7-7570-40C2-868B-D5FD83D9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C3F9-FC9C-4B57-840B-721CBC4C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322F-0286-4D5D-A4DA-F78768C0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7F8-3D0B-49AF-83E1-F6FB205E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CFCA-E923-4B88-B1A8-934F10C2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0BE5-A701-4003-B8FF-CBF5DAEC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1636-A5DB-40F3-96A2-63AFCE2E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413E-2992-486A-B482-9C656E06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42F2-663D-4323-AC52-0B26A303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D6E-6C6E-4205-9A3B-8B7F1F94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CFF-4AE1-4593-A271-51A98E33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C10-F401-42C5-8BE1-A3684B35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DE0-1BA8-4AE5-A972-77504937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B6B-7E83-4783-B1AA-EB4D492E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923-D026-48B9-83B6-B66FCA35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A04-06C8-4373-8C95-4EADE0A6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A46E-8A9E-43BA-A648-1C80C00FED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4255-B339-4C33-945E-00D11207FA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052640"/>
            <a:ext cx="7273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МИНСПОРТТУРИЗМА РОССИИ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ККО ОГО ВФСО «ДИНАМО»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ДЕПАРТАМЕНТ ПО ФИЗИЧЕСКОЙ КУЛЬТУРЕ И СПОРТУ КРАСНОДАРСКОГО КРАЯ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российские соревнования памяти А. Луне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длинные метани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4-25.02.2010 г.                           г. Адлер с/к «Юность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памяти А. Лунев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длинные метания) 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2276640"/>
          <a:ext cx="7991280" cy="3651120"/>
        </p:xfrm>
        <a:graphic>
          <a:graphicData uri="http://schemas.openxmlformats.org/drawingml/2006/table">
            <a:tbl>
              <a:tblPr/>
              <a:tblGrid>
                <a:gridCol w="3382920"/>
                <a:gridCol w="2251080"/>
                <a:gridCol w="1806480"/>
                <a:gridCol w="550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в С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и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 соревн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цын А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арь С.Б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главного секре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шкова Е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ович В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ьянов А.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ганов П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тюх И.Н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Нов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оборудо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 А.В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нбу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ммм</cp:lastModifiedBy>
  <dcterms:modified xsi:type="dcterms:W3CDTF">2010-02-25T14:20:19Z</dcterms:modified>
  <cp:revision>15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